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32089"/>
        <c:axId val="4658902"/>
      </c:barChart>
      <c:catAx>
        <c:axId val="133320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8902"/>
        <c:crosses val="autoZero"/>
        <c:auto val="1"/>
        <c:lblAlgn val="ctr"/>
        <c:lblOffset val="100"/>
        <c:noMultiLvlLbl val="0"/>
      </c:catAx>
      <c:valAx>
        <c:axId val="46589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320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27A1-92C7-4D9C-8418-8E92B971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222B-CE49-4DE9-A5E0-59E50DCD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7C4F-34CA-45B4-BEFC-349AD49A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DA08-381A-425B-92BF-1ED34311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6177-241F-4A85-9FF2-1DABBA34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DE60-95D2-4A67-87F1-57731454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8E6-8B20-40E6-B259-25821D61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D558-B0F3-412B-8190-04AC3CD7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BCF4-C891-4560-9E38-E3891994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2D9D-91EC-4D84-AF02-26ABE3E9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1E22-0A6F-4FAC-AD86-9D39C336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F37-DCCA-4F06-8E43-9F65228B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99614-1174-4CA0-967A-D7F9293281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