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29719"/>
        <c:axId val="53304992"/>
      </c:barChart>
      <c:catAx>
        <c:axId val="86429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04992"/>
        <c:crosses val="autoZero"/>
        <c:auto val="1"/>
        <c:lblAlgn val="ctr"/>
        <c:lblOffset val="100"/>
        <c:noMultiLvlLbl val="0"/>
      </c:catAx>
      <c:valAx>
        <c:axId val="533049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29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063-5D57-4068-89FA-BD0C38A8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414-A274-47C7-9885-FAE0B3AC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67F4-D55F-4575-A973-0F56B374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62D-ADC6-4B87-88AC-BC21B1F6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BB9-453B-4548-9DB1-FB24AC76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6DD-CBAF-466E-AAA9-E145C9BC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B53-A44D-4F46-A7DD-2BBED93F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AB5-7C84-4EB0-A7F6-5D827321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09B-9542-4264-B274-2B82D143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30E-A839-4A8D-8366-E122CF13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1DD7-B0AA-4F2B-B204-7AF7E692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44A-B0CC-400B-93B4-301C0ED0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91B90-9071-4F6E-9FBA-66F62B9C05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