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31766"/>
        <c:axId val="62403427"/>
      </c:barChart>
      <c:catAx>
        <c:axId val="74931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03427"/>
        <c:crosses val="autoZero"/>
        <c:auto val="1"/>
        <c:lblAlgn val="ctr"/>
        <c:lblOffset val="100"/>
        <c:noMultiLvlLbl val="0"/>
      </c:catAx>
      <c:valAx>
        <c:axId val="6240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31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D3B-4824-4277-AF2F-0D9CF314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32F-2AFE-4C5F-A64A-C52578D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686-04DF-4049-8204-C29C9C86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8B4-5930-445D-89FF-43F1D40D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7EB-48B8-4434-B1BB-AE5F654F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FAF-DAD3-4108-94D6-AD68D01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81A-ED91-4869-9681-2806858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DE4-B457-497D-93CF-FEF5E06E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59A-D9EA-4A6E-B5FF-D41ADAF5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981-6D3B-4B3D-AFB1-B3B67E9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4CA-16A4-45EF-B45F-E9D1205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BCB-9FE8-4EEF-BDE0-9B6548B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339A1-F3DC-49BB-9CBB-24E8590920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