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17045"/>
        <c:axId val="17267961"/>
      </c:barChart>
      <c:catAx>
        <c:axId val="76417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67961"/>
        <c:crosses val="autoZero"/>
        <c:auto val="1"/>
        <c:lblAlgn val="ctr"/>
        <c:lblOffset val="100"/>
        <c:noMultiLvlLbl val="0"/>
      </c:catAx>
      <c:valAx>
        <c:axId val="17267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17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6ADD-8B37-442A-824C-50881844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2EC2-428B-43CF-A1CF-EF45EEA4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B17-A00C-4E72-A48C-EB04E5A4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BCC5-EC9B-4817-9F6E-9B140C47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400-6A0E-4528-9873-A0E17863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232F-CFE0-459D-9EF0-F64E7DAF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7B4F-FA3A-48AA-BA9B-F4F5DF7A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E119-391E-4A76-9B6C-280DC134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18C3-AB7E-4C0E-A95F-819C5BA7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589-E687-4399-A4CC-C6B83915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A18A-D21E-4D72-B870-9B327D9C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DF4-45BC-40BB-A1F8-0192F618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21B1F-114A-4EAB-A64B-40CF60295C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