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203764"/>
        <c:axId val="83784482"/>
      </c:barChart>
      <c:catAx>
        <c:axId val="272037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84482"/>
        <c:crosses val="autoZero"/>
        <c:auto val="1"/>
        <c:lblAlgn val="ctr"/>
        <c:lblOffset val="100"/>
        <c:noMultiLvlLbl val="0"/>
      </c:catAx>
      <c:valAx>
        <c:axId val="837844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2037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19A2-5706-4A3D-9F9C-0B702FDAA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CC44-0D1B-48C0-92E8-6351266A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50D7-0C44-40C8-A0AC-135AE9E29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461E-44F4-4668-AD5B-14EF7412B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AA2A-0A5C-4002-84EB-05C61B84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47F4-3799-459C-925C-56B8C8E3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5D11-2476-4EC3-9FC0-C225B2AA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47A1-86DE-4210-82BC-E123BE37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DC38-CDA2-4566-A346-9C9C45F5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ED6E-D0E0-4E7E-9391-E55A9002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847B-E630-4607-BAD9-A58F003D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F4AE-55A7-40EF-AF60-5B26679C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2E812-BE3C-4840-B74B-EC40B1AE08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