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45479"/>
        <c:axId val="30895519"/>
      </c:barChart>
      <c:catAx>
        <c:axId val="13345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95519"/>
        <c:crosses val="autoZero"/>
        <c:auto val="1"/>
        <c:lblAlgn val="ctr"/>
        <c:lblOffset val="100"/>
        <c:noMultiLvlLbl val="0"/>
      </c:catAx>
      <c:valAx>
        <c:axId val="30895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45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20A-BAFA-4AE6-B94A-55AAFA73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04E-9618-4165-BC67-4456E99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F05-40DB-4871-BE08-2C504A5F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1F9-EC95-45B7-978B-EC9DBFF5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353-A384-49C2-BFDB-B50B7E7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829-E70B-4BE5-A0F6-5C852124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E91-B0FD-443C-83A7-74F0A95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205-3A71-426B-9150-36935282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9FF-47FA-4854-A963-FC671D84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35B-412A-4AB0-8C1B-2014334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9E8-59ED-478E-BA39-32D583E5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B66-6244-4849-9DEC-0D4C6C5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91FEC-F65C-4E65-8587-EBFF1ADF7F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