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7198"/>
        <c:axId val="43008857"/>
      </c:barChart>
      <c:catAx>
        <c:axId val="2397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08857"/>
        <c:crosses val="autoZero"/>
        <c:auto val="1"/>
        <c:lblAlgn val="ctr"/>
        <c:lblOffset val="100"/>
        <c:noMultiLvlLbl val="0"/>
      </c:catAx>
      <c:valAx>
        <c:axId val="43008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7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2A0-6367-4BF1-A281-B79E8CD1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5D9-1232-4BFE-AE70-4941929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477-433C-4D81-B36A-E517916B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87E-6AB2-4AD3-84F7-9E20F289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14D-1542-495F-9B9F-BE00D57F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E25-37C3-4F55-A3BB-C798025E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32F-4741-4846-B545-FB683FA4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674-5C94-4F05-99DA-AB7AB262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5DB-BD3E-46E3-9CF4-38786B57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867-03C9-4D0A-B214-F10E83DF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42A-E8E2-4033-AF3B-198C2D6D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BF3-155C-4AEF-888E-4D250482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25328-1DCC-47E0-98C0-53B4975FDE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