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69928"/>
        <c:axId val="80634467"/>
      </c:barChart>
      <c:catAx>
        <c:axId val="34969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34467"/>
        <c:crosses val="autoZero"/>
        <c:auto val="1"/>
        <c:lblAlgn val="ctr"/>
        <c:lblOffset val="100"/>
        <c:noMultiLvlLbl val="0"/>
      </c:catAx>
      <c:valAx>
        <c:axId val="8063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9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ED1-F3F0-40C0-81CB-F3F8179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C25-166A-47F9-939A-FC8C81E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781-F857-449A-8ED1-CDE60B85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EF2-DF9E-448E-910D-5DA171E2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6F3-997E-4065-8855-E7E640F3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E74-B411-44A0-9724-A39DB30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F8A-46F7-49EB-B82F-325C59E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F68-E7C0-40F5-9B51-F3EE1EF2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F50-FD7E-4086-81F6-379C82B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7DB-5D9F-4831-9D03-E718791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792-46E9-44AD-BA53-2E07692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7A5-7330-4A98-BDAA-98255A4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FD420-497C-4F0C-8008-C189A9DB7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