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BA97-B272-4FBD-897C-37DAE732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94BF-6284-4BC2-800D-5505D454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AC370-A7C5-45B8-940D-03331C79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AFF46-84FD-4AC5-9527-E4525DE7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E9DA7-FFE1-4329-9CA1-7276631C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CE0E7-5B48-432A-BAD5-C76B7E77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F098B-A352-40DB-A1AB-803B1EFC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05F3B-027F-4999-95F7-173B6843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A37BA-E19A-4B95-820E-3FEA25C8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4FB05-564E-4559-9CBC-AB50F09F3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9AC17-C1B7-427B-B3EA-4FC173F11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F087F1-ED55-4D7C-AB44-9E3B8BFF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5F21-883E-472F-96F6-FE7653FF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A647E6-98D0-4B22-B100-4376D14F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6EB7CE-3FE4-4A7C-B604-B66FDB73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F6E9D2-0345-48D9-9F11-7C0D9824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E24F50-76F9-453E-BB7A-9D2BDB81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45F18D-1711-4346-8FAE-E498A478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0E3972-14C0-421B-B532-5C171871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ADB1E6-C4E2-4ACA-A229-65C4C23A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949554-CB71-4136-A72A-53FA3A9E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A9A9A0-683B-41E5-8F66-67A2FD65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BC05C8-D105-4AE7-A5FD-3554C9D93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8699-5E79-4ECD-8DEA-384ED7D3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584A68-AFD9-41AE-88F2-7066FAA7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2E13D-B952-4551-9790-C3E0F9BBE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D9A46-0A66-4D84-ADCF-D7EE8377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985E9-CD26-447E-82E2-F4109907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13592-DD65-4CDA-BECA-4C4BFB2A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39E90-6991-42CC-9DEE-47FDAEC1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8E870-A571-46DF-BE0E-9E59B7D4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64FA8-A11F-4B83-B760-66CBEE93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68302-98B0-4413-9A11-773B08EE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FFB55-716D-409E-8305-7C595448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20E5-9824-4E15-BC8E-9F350CAB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58883-CBF6-42CE-859A-1D712FC1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A3FB2-236E-4392-99B8-95CCDEA69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3B29E-0E85-4601-B8E8-A3C80D91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C3DFEA-E016-412C-87CE-7CF562D44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756AB-5632-4E85-8256-DE19D4DC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419396-A5E2-45F8-9117-693A4192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F898F-7589-474D-B3B1-E9ACAE07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5C2E9-8390-4058-B0F0-FFC77151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0982DE-189A-4DA4-BC92-035D8E13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9B13D-DD0D-426B-9211-C7975206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DBC5-3566-4DB8-9A29-F85F91EC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F0FA6-9281-415E-ACA4-5E104997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6F45DA-9AF0-4F86-B6F1-5BA60A8C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451611-3B8F-49BC-AAA2-85608474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67B27-355D-4D60-9972-22EBAE34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BB76C6-E43F-41E6-885E-5160EFB02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6174-C0CA-4607-BC6E-883212ED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C9F1-1E47-4839-BA1C-AA37A2E7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0A78-28D6-4346-861D-51861210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A3B4-DEA9-48FA-AB17-720EF66B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D50B-5738-4970-BDCD-430964A1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8DC2-4181-42E9-A123-52E6DE50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8413-F893-4DC9-903C-0F1B5441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E487-0582-4C7D-8AEE-8E7824F0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F24A-F8D7-4C3C-A41F-2D56E202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2D09-CBA2-421B-A7B5-68023B315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83DD-5532-4ABD-9EA8-D0BCB6E31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C5B0D-968B-4B86-AA8B-E87215460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03AF2-B831-4449-AD13-AA1FE048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28FFF-8A00-4C72-805C-597D81CF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D78EF-9B39-410A-B3BE-8E6EB046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007F4-227D-4AF7-8EAC-98B98BA1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4921-B269-4F2E-936C-B1AE7ECA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1B109-6DC6-43FA-A8C8-B21AA837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2F9B0-D5BE-4197-9BD4-A8683D60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21AE1-7872-4B60-8B7C-277CAC67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CF385-6B6A-427E-BD24-A1865B21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0E724-69A9-49EC-918A-C1037861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BF3D9-DEA2-4886-A438-471CA0B51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3A6CE-9ED3-4B4D-BBAC-7229916B4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8170D-FBC9-4BEE-B1D3-EE78EE92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92DBD-8E16-4FD5-BB37-29D6DC40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78AA5-94DC-48A4-BAF5-BEC1F5B9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B04C-7B0D-4EBF-A0F6-4A47BC69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B8087-BE36-4B9A-9418-8C831278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6DFE8-C7E3-4D48-888E-D969DEC2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63A93-A088-425E-9AD1-47120363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81384-88C4-4A81-BD4B-FAE7181E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554EB-36E0-49A9-9C21-8B4D0790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336F5-6D6E-4F81-B97B-301470B8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3B764-153C-4A77-93A7-9720C72E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6F4E3-AC9E-4C5D-AD4A-77DF149B3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D0512-92FB-4592-BDC5-7D810F1F9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6BC17B-5820-42D4-8243-E158FECD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C6C3-7675-413F-97C5-17A9120F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05955B-593D-47AE-BA62-1414DBEC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5F5145-07E5-4574-9BA3-38081DDC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FFE48F-E456-4590-B6F3-B76659C1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FB8C57-620B-41D8-A412-8BEC98B2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021163-72E1-472C-9207-9765CF7C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D84512-83D9-4C10-AFF7-29DC0373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DFC34C-C875-43C5-B2A9-DB32B846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B520E6-8A27-47A9-8CBE-D08D1CAB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27091F-67F7-4D0E-A198-86938D2C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A31E40-2E6C-42AD-A015-9ED1E10E1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507A-C1B8-4199-8023-4DFC6517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796845-92C9-47BA-B4E4-242D0601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7127A-5C3F-4FE7-9C30-F0F061677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026FC-A015-4C6C-8B4E-ABC5178C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24C3E-BAF3-46FC-9E79-741C9C09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B767C-608C-4059-AD9B-B2252906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C49E2-04A5-4F3D-B699-DDF070F3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7C860-56AD-48AE-ABB1-0AF684AA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52BD4-C9D3-4D24-8D28-0A4BD4AE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F6100-6342-4E09-81FA-37CDA6C9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3A1B4-EFCE-4A1E-AD9A-D16EEA9C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CE7D-C929-4403-9B03-2562831C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D1061-F232-4566-BF88-9AF9705D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AE766-DFC6-4FE0-BBCC-4A95E467D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8EE4A-7CD4-49AF-BDAF-A27BD260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5972A-A96A-4482-988A-3F6A4333F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6303E-A90F-47DE-871F-226F4003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DF308-12C5-48CC-B14A-2D789344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05726-F231-4848-8C98-7D8EEAE9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27587-B625-49BB-94C9-234912EE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3DF35-292F-414E-B777-EEA5DF1F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AEEEF-54E3-4CAA-A6D7-406A2DA7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F408-21A4-433E-865F-D5D67432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EE8E0-9694-4556-9CA7-FB2422FE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CD055-ABC1-4CF6-958E-946C1882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5A9D1-EBE6-4271-8194-3E5DD667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BD7D9-76C2-4466-A573-A132B5ADD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75C33-66C9-4EEE-AC50-CC25EBE9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AB8A8-8DE7-49FF-943F-AB14C38C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97727-9CB0-4E5B-88AE-3C321736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E56FA-01D2-4268-AA51-643CB0EB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CAF97-11C2-4315-8B76-4029F6D2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2A63B-5D4F-401F-A61D-A0A2C54E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458A-2E77-4109-A396-52AC7F0C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DD1B3-29C6-419C-A965-030D1E25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4D3C1-425A-4DF3-BEFC-07841DBD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65491-2EEC-443D-8813-46097298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7CBAD-CD14-4D9F-8E90-19318131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5DF9B-FA76-4E13-8990-6972C18F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D0A70-2073-4D02-9C44-4033DABFD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24F9E-219C-4F61-B620-5435749D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7DDC4-432D-4173-830A-3EDC39B1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7FC715-A0CB-4B4F-B700-37326FAB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05511-55DC-45DE-A885-4D747BC1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BE2D-6172-442C-A43B-670F3E9F833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1E08-35CD-41BF-963F-75B134376F4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A30F-CCBF-4AF4-B3A3-EF355994665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FA66-7B04-4AC5-A81F-C4782E74E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DC70-77E3-4A6E-87D5-4A915A72C046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1EC9-E5B8-4C2E-B175-C5A1276C09C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EF9C-D154-488B-94F4-FCE48D1AEFB4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599F-D2A7-4185-91E9-4881E40F6AD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D19D-1B15-40E6-9CDB-EF5DBB8652A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25CD-2BFF-4879-AAD5-9A24FEA6185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FDDA-130A-42CA-85C5-4BDDB7A9902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70FB-67C7-4CBD-A59B-30266D3B1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0348-1F9F-499C-97DC-6A55305BE50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7B76-3209-4008-9D9B-321026450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433F-6E6C-41AC-87AD-6F14D1042F1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F104-7EB7-4022-99C1-0CE7967D746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C01C-1224-42E8-B6A6-DA58F834B52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3B30-336D-473F-9C2F-D551D7ABC40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3108-6E79-4796-A892-76A4C5A3B2F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542C-B3A8-4426-B3A8-3FFCA81FE8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4AF8-E240-465B-82FE-1A32D1BB92B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B28E-5B2E-463A-8155-53717BE0B65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C361-8E5D-400B-A2DF-35F5A686988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158E-C15C-435F-9B94-4B6BB1879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ABE3-A4F7-464C-9664-4EAAF8E4EC5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2F861-5189-4CDC-B23C-FB364DD1B03C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2DD88-0475-488F-B04D-4D96250A8C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BF24FE51-4350-4AE5-8C37-8B539B62CFB9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EBB3D-1D7F-4198-A126-2FE41ACB4C99}" type="slidenum">
              <a:t>3</a:t>
            </a:fld>
          </a:p>
        </p:txBody>
      </p:sp>
    </p:spTree>
  </p:cSld>
  <p:transition>
    <p:comb dir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AB384F-C4AE-4F3D-ADF9-DFD2BE98767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CFAE9E05-1FFF-46C8-AA14-B2AE5C206CCD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D58F9-71B4-493B-870F-DD897D8423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700900E1-A4E5-4250-8690-BA1FE039E2DA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7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8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9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6739D-6BB1-4FA2-9549-3731AEDFF29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68128298-CEAC-434B-A638-06F455BD8BD2}" type="datetime1">
              <a:rPr lang="en-US"/>
              <a:t>07/30/26</a:t>
            </a:fld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7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