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31C49F1-E11C-4E76-9058-86E9F544DD43}"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D973E68-E17D-4DAD-915E-365877ABC63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FB98F1B-A38D-4AEE-8424-C6A955F65C0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53ECAE7-1DB8-4AF5-BADB-FF601A2F62E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4D89541-49C7-4CCF-8489-60C8515BBBD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9E2B253-D874-498D-85FD-B6358F83595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51F5651-9B3E-4111-BC7E-E57B4C8DA15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B4354FE-98F1-4F77-B8B4-B7C08B8D66C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430C41C-C4E7-44A4-80F1-93C00DE5682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0B4B800-A1C9-45B3-A896-A309F6D3920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D78504D-8019-4F59-9B75-4AEAE22922A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7B02171-8B19-41EB-845F-7690C9CBDE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F68CD5-B003-447E-BCA5-67E5C20CDB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C01AA2B-2048-4FEA-9828-66CCE31D5F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D375D15-3D9A-451A-83D2-87686D005A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9A63173-72EA-43EB-B5C2-BC1F53D80D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5E6F707-D3AF-4CFB-AC2D-C1A277CCA8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029492F-21A7-4096-A8CA-68D0BAF7EC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AFF7C75-BEBF-4789-86DD-E96CFE87D2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A302BD1-0976-43BB-86DA-4E63A78F4D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80DBC54-58EB-4E8D-B59B-946D0B7F81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06760A6-D652-4DC5-9BB3-C0668766F2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933D8A-C747-4A13-980B-F9E269EE03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87CE86F-0DF1-4443-9607-02967363B1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AEA0E2C-7588-4373-8AD9-01FE783574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D40FFC6-2AAB-433C-BDBB-209BDADA1F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A31585C-6F24-4EA7-81C1-968DBAF6BC5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C038D8A-CE24-44C7-8A62-DD1BDCCD00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F43256-880E-4F2F-B802-A9C0B7233D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8119F2-17E0-4758-BA7D-68C668DF21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766536-BAEC-43C2-8834-EB54DFE587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C9F9F4-DEA2-4E54-8CFF-D044D3252C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23A307-7E66-4983-8303-68FB9F4CEF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C2D65B-D2D4-40FE-BCC4-D220EADE7A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D7A857-56C5-482A-A496-4E688A0219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1CAD7-B7F3-4181-83A3-A8351865CC0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C4D5C-F6FB-4E43-995E-C5C42F45BC5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46255EE8-F538-4FC8-8611-E34EAA3B3D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56A76ED-82B2-4746-956E-1803CB0B1DB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E77195F-29D7-41BD-983A-651D019AA3DC}"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3A6FCB6-D9B2-46F8-BD2F-0F226D73939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46FBF60-AA47-46F7-A545-25684D7B9C60}"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937C83C-6C6C-41F1-A542-08192679848A}"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4D78360-F2A2-42AE-B80E-352DD5FD09F2}"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94F2290-4C9F-480D-B61D-246270DC7FFD}"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6759349-8E72-4F1C-845F-4E2FE91EE751}"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9599DF0-BA46-41BF-8805-E3CCE69AEC6C}"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B22BCE-3F48-4B47-8017-9EA5BD13C918}"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2C07E41-CF1B-4AB7-B662-F881E72253B7}"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4701A87-7073-42C3-9B02-45E53F21E6B4}"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B8AE877-C717-4A01-8CD3-8B8EFBA557DB}"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33AFE74-55DF-46F4-A37F-398892C66E28}"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F1AAB0B-9E02-4BCB-AA48-38A6F19DBFF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EF16967-F2D1-4B5A-88E9-FE3EBCEA5DC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5CAE38E-A6DC-4912-B18E-2442491E1C0D}"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59941B0A-964C-4A67-BBA3-4A877DA0E173}"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B3AB331B-A0F8-47D5-B2B8-48B3C18DAD9C}"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A6782FF-2EE1-44E5-87B6-784B3D18D4ED}"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27FE0E2-5BE1-40AE-B7D7-2C6FCF76DE95}"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29935D2-8DC7-421E-9092-B32E5759A62A}"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16E5E17-61CD-455A-B20F-2741CAFD1586}"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409CA44-1A9C-4F53-AD42-2FAFB1148B0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2314F1C-05CC-4E69-81F7-2EA25897D59B}"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DB24BFB-1BA1-40B9-B0F4-2BE94DE4B3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9F69FE-E587-4307-8732-0112C25CFBDB}"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3E760D05-E685-4B57-936B-D10CAA2C61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31A8A1E-8E78-42CD-9F41-69651C5DF4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A7322CC-A94A-476E-B69D-7AF1CAA591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76EDDF2-142A-4E83-B44B-226810E60C7C}"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4A03889-6F96-4EC9-A1EE-259F9F8BF7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70358C-6336-4A98-804F-BF8BD81036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0BFA3CF-5237-4333-A6D3-825A5CE252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98DEE6D-9A3D-4014-92C6-2183DB34F1B1}"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E3E938A-5B96-4A8E-B959-74AF0006E7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B0371C3-5448-4F0B-8A09-59D7095E6F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D17BDA5-3F3E-4DEA-876F-18B7769D83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E1CE2EA-9D20-425A-ACA7-57AC117510EC}"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8435838-D225-4E8E-A2B1-7F6ECEED4E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F4E943F-9259-46B6-868B-9168EEB0A7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255DC5A-CA97-4BD5-8DEE-C4B88F8E368F}"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0134FD0-CB98-4DE9-82F5-EFCB18DBD8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63CB19F-8995-4C09-ACB1-8B9743EE5D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88E505C-49AB-4569-97B0-503792DED9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3A6D48-87EC-4987-AEDD-8F6E54216A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E362523-A008-447E-8778-5D0137FFFA7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D74FBAC-3A75-470E-AB8D-D4B2F3FCB35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AA068D9-6C5B-416B-948E-6F4AC6FFBA2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1A9907E-215B-4C17-B555-3454559609A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00EE1F8-B969-490F-A111-E8E345A6220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7194971-035C-4E0B-97AE-77B71517277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BC75E32-E598-4D52-B376-34969CCC0AA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2BAEF58-1A81-4DDC-BC75-8F9C739CB68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A9DBA04-A526-4433-ADFC-12009A0A795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59304F8-8A1F-497C-B2B8-B82109A2072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86A0234-743B-4414-AFE0-D1501CE08BE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FE854DB-6975-47B4-9325-F07A46D65EB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FD15B0D-AB15-404D-9DA2-A4D94340269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A1AB2B0-5BA8-43ED-BAF1-B953864E446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7C87C5F-F119-4078-B835-CACB71E3481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DFF79F7-A33C-43BB-AE84-FE738D0C6F5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5982994-FF59-4DFB-B2DF-F16AAC16D8A0}"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4DBB46-2F9C-41E9-90E1-C3F4B8D9FE7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9A7AAFC-905B-41FE-A9BA-68F8D745711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AFBF4AA-DDE2-4F1F-9BE9-4910B65DA9D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830A897-59D5-4E85-94F9-C169ED71EB1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DBDACBB-6089-403B-89BA-FD145C3F084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F91E484-4457-4364-BD32-16BE7D80869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A55DEA5-4166-46D0-864A-988CBF0DA80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F6F76BA-0BA5-446A-BC6D-55F7B0F652A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A23F16A-2EDF-49D6-91C4-5DA1892390C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C46CA23-C984-4D0A-A51D-05AF1440695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19E5D3F-6A4C-4B25-8385-05F210EDA7A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E979C2E-A488-4365-9F9C-2E28180C301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19AF196-8E78-4503-8F5A-33A96271357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D476CFF-157D-47E1-B497-171C0DFE2B7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85B27F2-AE4E-4F00-9F28-A8292E91997A}"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B77630F-BE46-4682-83E5-608CB7AE901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00A28D4-23FE-4FCC-AFDD-2A15B59394D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42C8C37-6527-4345-82F7-86E593E1833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597260-9524-455D-9A29-88BADE60086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1AD0BA6-BD9F-4FDE-8660-A54F0B6BCDB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862E4A6-873D-4E15-A727-E21607C7C664}"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4802997-4FFA-4C84-BF3B-4C6CE531AA7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0C0C3E2-D547-4CF7-BDC0-07B51A5ECAAE}"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B461E32-A405-4B6A-916A-38D331C2D3F1}"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3BC01B6-4DCD-4708-B3BC-D5A7282ACF90}"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247AE0-30D0-4FE2-B969-EA411415270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965950-2D57-4282-B628-C581758D4C59}"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4F2A724-9613-49D1-8B65-489805C802CE}"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746863-05C6-466F-8252-9AE7368A319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F9007C0-579E-4472-B770-D7EA644E2FD9}"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5E0CE2F-5746-4D38-9BC1-F0BC21D1668A}"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A8CFBA-AFEC-45EE-8763-2237070F428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FA23B7-3D0C-4B19-A9A6-80C83334E36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A865C4E6-D713-4AB3-81B1-ABF82C1F8F68}"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25991F0-B99E-4D69-AFDD-74A99C379AE6}"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74F9776-B89A-46D7-9D72-E0C2CB0DF40F}"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76E6131-896A-4FFC-8E08-D2735FC3C69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37AF748-A861-4E44-BACF-ED321D4D15E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88B570E-0356-4438-9FBD-AEEEE947ADC6}"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6872E78-E1C9-4067-80F9-D93F0975E763}"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2986D46-CCD7-4640-BA41-AFB6E732A3F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8534BC3-90D6-44DA-B4EB-74A5D1B4506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FB665D7-40D2-4D6F-9CAA-C2042BD99AD8}"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5948658-A67B-4215-BB37-9E3CF974BF72}"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43898EA-A7CB-4A92-9DCA-6DB8595D0568}"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75654B8D-C585-4AC0-ADAC-66C01E67D3CB}"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567CF62-BCB3-4FF8-B199-487175B9B8AB}"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F343959-5518-425B-AC00-DB1592817645}"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302CF51-656B-4027-B99F-B958EC09326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D31795C-4FED-4502-9DEA-671CAF8ABA9F}"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3A773E7-3BAB-47AA-8A4F-D6E09120E5DE}"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88F4930-480F-455A-A4AF-4E5E1BD7AC7D}"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726227D-30EF-4EF5-9634-31526569F351}"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36F26DE-3084-4E7C-9EF0-BDA2A443093B}"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40467A7-E1BB-4787-AB80-1E7D5FF7B1E7}"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53C2308-ADDB-4C3C-8B7C-0377A83355D8}"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414BC79-0FB1-4DFE-81D5-C3685B82376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