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19367"/>
        <c:axId val="42825693"/>
      </c:barChart>
      <c:catAx>
        <c:axId val="86419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25693"/>
        <c:crosses val="autoZero"/>
        <c:auto val="1"/>
        <c:lblAlgn val="ctr"/>
        <c:lblOffset val="100"/>
        <c:noMultiLvlLbl val="0"/>
      </c:catAx>
      <c:valAx>
        <c:axId val="42825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19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5356-75E9-4F8B-A718-9A3177E4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9F5-E3DA-4644-93F0-BF55458F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A4D9-849A-4F2A-A3D7-23DE0F63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4A78-F0F4-4A4C-BB7A-CCE11FBC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1857-BFE6-4C5C-AFE1-1B2BCFCF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9864-D30F-4D2E-A8A7-EF3C2ECF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C798-7847-4994-B6DF-F32AB588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B37-DB5E-4CF4-917D-B027AE93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609D-DFA3-4FD0-9D19-BB0C68A4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DCE5-1377-4DDB-8C11-779672F6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8E42-DA20-48F1-A5FC-774E9379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4C20-42F1-4C74-BE4B-3A60C515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6FA48-8BD1-45D0-A74F-CFB5258ACB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