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67923"/>
        <c:axId val="32828303"/>
      </c:barChart>
      <c:catAx>
        <c:axId val="823679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28303"/>
        <c:crosses val="autoZero"/>
        <c:auto val="1"/>
        <c:lblAlgn val="ctr"/>
        <c:lblOffset val="100"/>
        <c:noMultiLvlLbl val="0"/>
      </c:catAx>
      <c:valAx>
        <c:axId val="328283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679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788-C61B-4E62-99AC-2BC64C5F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14E-D188-4EA9-8B6A-B75BAB2A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2EF4-AA7B-4153-A33E-C3C2C1FA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0B8F-EEA9-44AA-8EEA-F6D41631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DAF-EC7B-48D5-A9C8-58E95A8B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53D0-AAFD-4741-90BB-E4694A75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E75-9273-4EEF-919C-BE459C71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A415-24AB-46F0-A0BF-1631DFFA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09F-FA85-4CDC-AEE9-11C76335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9106-C552-488E-AD07-927B5C0A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078-73F8-4A31-A8E1-A5993387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2587-01F3-4704-B3C0-9D3FAD86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3680B-A7F9-41D3-A6AB-EB291A1C5A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