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55224"/>
        <c:axId val="37501745"/>
      </c:barChart>
      <c:catAx>
        <c:axId val="41255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01745"/>
        <c:crosses val="autoZero"/>
        <c:auto val="1"/>
        <c:lblAlgn val="ctr"/>
        <c:lblOffset val="100"/>
        <c:noMultiLvlLbl val="0"/>
      </c:catAx>
      <c:valAx>
        <c:axId val="37501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55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367-D36B-4526-A155-FC9C46F5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B8B-6969-49BA-B797-A9B8598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58B-6D3C-49A8-AA3F-A7BFAC82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2C2-DA5F-4649-966E-939BE1B0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B34-ABD5-4BA8-9736-7210932A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208-0250-4663-A970-FDF54CA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782-2F5D-44AD-BEC2-105D552B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DD7-9373-482F-BCE2-A09800B1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65B-F707-44E3-A1B3-E19BD721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42C-1DD0-463E-8E15-B059EA0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58D-6031-4869-A400-33D0A941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1E3-D062-4A12-89BA-AEA7A18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61893-A91A-401D-880E-CC1369D664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