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967080"/>
        <c:axId val="64843654"/>
      </c:barChart>
      <c:catAx>
        <c:axId val="389670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43654"/>
        <c:crosses val="autoZero"/>
        <c:auto val="1"/>
        <c:lblAlgn val="ctr"/>
        <c:lblOffset val="100"/>
        <c:noMultiLvlLbl val="0"/>
      </c:catAx>
      <c:valAx>
        <c:axId val="648436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9670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DB49-5AC2-4F05-8F95-37193A81A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51B1-2544-4AB3-94F3-E0F101E9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777B-5DFE-49D5-B7B0-3B0F9BBA4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98C9-71C9-4B4B-ABD7-06D6D1D6C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FF65-5A8D-407C-817C-B341B380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881A-3858-4A58-8C6B-4BC363EE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549B-4BF5-4D8F-B9DD-93F12910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0D70-6B68-4927-837C-BAE336D3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3B43-DB7B-49D8-8CB7-E5D8619B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26D4-D8EF-4C16-A11D-0C83EE08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9DA1-B9DA-4790-83F3-024BBA56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6110-CAF3-4191-ABBC-855C296A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24857-4920-4255-83F6-8174DFD877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