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229618"/>
        <c:axId val="59170418"/>
      </c:barChart>
      <c:catAx>
        <c:axId val="672296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70418"/>
        <c:crosses val="autoZero"/>
        <c:auto val="1"/>
        <c:lblAlgn val="ctr"/>
        <c:lblOffset val="100"/>
        <c:noMultiLvlLbl val="0"/>
      </c:catAx>
      <c:valAx>
        <c:axId val="59170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296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508B-155A-4099-82B5-DED9AD2D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F3C9-456A-4685-83F2-2E98B764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4D17-BE94-43FE-A9C0-886CB5E5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9243-78DC-4EDF-8810-FFAB8D21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3AF-B749-4AC2-AFB4-0F6CA51C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6D5E-C9E8-4518-B3A4-A03F5536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C6A4-41E9-4721-A256-BE2B1DDA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F172-DA98-43E6-BD9C-E135ECBE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2F00-71C6-44E4-97DE-5D9BA5C1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F42C-15BF-4EA9-9272-10578472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5B47-94BC-4C61-9235-DAB9E063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21D3-240F-40A1-B332-4D9E737F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DFD14-B3E9-4356-9208-09B0AC6FF2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