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85708"/>
        <c:axId val="31137780"/>
      </c:barChart>
      <c:catAx>
        <c:axId val="44185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37780"/>
        <c:crosses val="autoZero"/>
        <c:auto val="1"/>
        <c:lblAlgn val="ctr"/>
        <c:lblOffset val="100"/>
        <c:noMultiLvlLbl val="0"/>
      </c:catAx>
      <c:valAx>
        <c:axId val="31137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85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01C-90CA-4355-BB11-48FA470C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9E7-F162-4CDB-B88E-9F5B2C0C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306-0551-4920-9839-FC92B070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32D-D9AA-443D-9381-16882ACF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A300-1FD5-4DDE-A5E9-826C7FCF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7B9-DB49-492A-AD8D-FF5D6875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EAE-1CC1-4A00-A501-1B6A59F3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681-9683-434D-B302-7DD06A52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FDC-B6D1-4BDA-B274-987EAE0B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3103-7658-4392-B704-EE96EF18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4B28-4D98-4E6D-B688-E8000AD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4D3-5FC4-4573-8244-828C0C5F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F855D-1317-4235-8F39-415FC55611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