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44036"/>
        <c:axId val="87329982"/>
      </c:barChart>
      <c:catAx>
        <c:axId val="99644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9982"/>
        <c:crosses val="autoZero"/>
        <c:auto val="1"/>
        <c:lblAlgn val="ctr"/>
        <c:lblOffset val="100"/>
        <c:noMultiLvlLbl val="0"/>
      </c:catAx>
      <c:valAx>
        <c:axId val="87329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4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557-FD2C-4A5A-BC6C-63444601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654-945B-4230-9DA3-CDE698B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A36-3E88-40EF-A435-9B1A3787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C4E-E9A9-4363-A754-FFFE3388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817-46A6-4D73-A94F-CB839C1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D40-C13C-47F1-B316-B41359B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041-3EA0-4B68-A798-63E9CDA1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253-8BD8-4F46-9BB0-73D34F3B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586-7CBE-488B-8F5C-1C65C44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186-29A3-4960-A810-4980EF9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12F-B4DC-4F68-98F0-53AF3178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71A-ED9F-488B-96E5-369A5D97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9E6F4-6343-483F-B91D-B7285A468A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